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67A-9FD3-4456-98F8-EA144E1F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2D4-F7C1-48E7-9F4E-EDCCEC6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981-DFBE-4BE7-BB47-D2441560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D0D-C24B-4A65-A983-4A2F282B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6B7-2E7D-4453-88B6-5386F510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CD8-B782-4B2F-8693-9DB288C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A242-281D-4830-B33D-AB05B9E1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3958-6BF0-48CA-9747-CD2796EF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286E-56D2-478E-9F73-AF8E8EBF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053-1F2E-49AF-9973-6930808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3125-2FE1-40D6-8F99-8045263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73C-F31F-4B14-92A3-C5BBA08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1267-B93F-43B4-9CAD-D504F84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536-04A1-4C22-9E19-6D89C4D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228-C1CF-4614-8EAB-BD682CC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46EF-F78C-42BF-9CF4-B57E9649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C4F-8BF7-4B6E-B2B2-F4A81306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1175-09BE-4B73-A630-EB2E37BE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4318-84AA-4E57-8C14-A0D8567A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66DD1-08BC-4196-9087-504CDC0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71AF-7EDE-492C-AA9C-491F380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8B0C-76CB-47C0-A7D0-4F1354D8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89F-6D66-45CD-A72A-FF29DAE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3B0F-98EE-4AF7-99B5-AB9D57EC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5C62-F9F0-4EDE-BD2C-9FB6AD0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6F43-8D88-4111-8CE0-5D88694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BBE9-EF32-4745-93F3-11652D0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7319-C9CD-4C84-8114-9D6DCE17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3CDF-BEC6-42A2-885B-6BD20716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6015-2D14-4D2C-8ED7-BD5653E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ACF9-132D-49F7-8CDB-B1597BD4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DC12-48B0-4036-91DA-9CB78DD9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1700-79B6-4232-B6F4-632AA8C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724-8263-4AC7-891A-92A0F20F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CA89-1113-4156-B80D-416E4DE9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6706-E72F-444E-AD85-797588F6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874C-C9AC-43B2-951D-360945D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1559-A1E7-4726-B180-323418D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B242-2E35-44BC-A18A-85DA2132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699B-2952-44A7-9EAD-3BC9FAD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E2D5-56B2-4396-A3A6-CCB1706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ED0C-FE51-4AC5-B6BD-AF199915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98DB-2299-40EB-B321-5035AC9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3884-B3CE-4720-8B59-6572781E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9F8-B877-410F-BC1E-A6A20D9E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2F3B-9851-4B0D-B50D-ADE9DACF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FF74-3E26-47B0-8840-897C066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8213-D21E-4BD9-8634-A53C94C6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6F2D-A59F-4B3A-BD1A-B99F09F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0776-1084-44EE-823D-B487EF6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E886-A172-43D8-8028-4854E52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EF29F-71A4-421E-A61F-FFD629B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E3BD-A999-442F-BAB0-A452776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E4B8-BE7A-4AFF-BB98-178ED18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E6FB-B751-452E-A34B-B7B8AC2E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54F-3114-434F-B5B4-8157F632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E1A2-A8B3-47D0-99AB-AABA379C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FC34-899C-47F9-9CC8-62CE9389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C848-588A-40FC-A408-B0838F9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EB37-99F5-40E9-A84D-2BE482A2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3204-9B80-4B38-A557-3960686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8017-30DF-4C37-8E85-998ED69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74D67-FA9C-453A-8A0C-12E89432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428D-A7B1-4ABF-AAB2-B7CCAB4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84E21-E461-49C8-90A2-C8F2F32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BEE6-A29B-40DE-8CC5-5D80F8F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78D-5CED-4FAA-ACD0-A2B0A1B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92A4-20CB-459E-9581-440D340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A80C-0BD6-49C5-B949-EB0CD91F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689A-F3B9-4232-B915-D92DFBEF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D436-CF25-4371-9D9B-4EDDC1E0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CD9E-0E0A-4E40-B65E-70B1F134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C9C54-B63F-4F74-BB3D-3524B96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848F-DAB6-423C-B299-A4B6583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2498A-43B2-4AB0-BCD2-C2222E4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082A-C7DB-404A-8DC3-78EC798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27F5-04BC-4C58-B78E-045E5BC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B84-7953-4F67-ADDB-6925DF3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BFB3-DC1A-4C68-A6DB-B9D78E1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B36F-6F59-48B9-8281-C41F60F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FF01-E480-4171-9835-3CD823C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6C15C-3487-4A25-AD63-4214A45D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1A8B-999F-4554-8C6E-E10D54A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DF8-4D9E-46B5-BDD1-041F47E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227-1F4A-4112-9F77-76602B56F631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458F-BBFF-4DB0-A3DC-6C14B10FD79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290A-3FB0-490E-B611-6DA0D705CF52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3E9-1F1C-4214-A5D5-13CAAD065EE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4D23-7A61-4E31-8DD2-661560FB30EE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7BE6-7E6D-489E-A17C-946978BFAA7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06C6-3D7F-4B04-B3C9-9B4F63D86681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1694-ADED-4FF0-BF85-46005F43687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20A-0BE4-440C-9B69-B3FC2A23CF9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A5D2-13A9-4A3D-B73A-331CF333714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3E8-56BD-4CE1-8062-E0E35C8E4AE9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DF2E-0F17-46B1-9F1D-505E3AC2B58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2090-64FE-4470-B6AC-22226489D05F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E63-B416-431C-BA41-1CC20BE2725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40;&#1094;&#1080;&#1082;&#1083;&#1080;&#1095;&#1077;&#1089;&#1082;&#1080;&#1077;_&#1089;&#1086;&#1077;&#1076;&#1080;&#1085;&#1077;&#1085;&#1080;&#1103;" TargetMode="External"/><Relationship Id="rId4" Type="http://schemas.openxmlformats.org/officeDocument/2006/relationships/hyperlink" Target="http://ru.wikipedia.org/wiki/&#1055;&#1088;&#1077;&#1076;&#1077;&#1083;&#1100;&#1085;&#1099;&#1077;_&#1091;&#1075;&#1083;&#1077;&#1074;&#1086;&#1076;&#1086;&#1088;&#1086;&#1076;&#1099;" TargetMode="External"/><Relationship Id="rId5" Type="http://schemas.openxmlformats.org/officeDocument/2006/relationships/hyperlink" Target="http://ru.wikipedia.org/wiki/&#1053;&#1077;&#1087;&#1088;&#1077;&#1076;&#1077;&#1083;&#1100;&#1085;&#1099;&#1077;_&#1091;&#1075;&#1083;&#1077;&#1074;&#1086;&#1076;&#1086;&#1088;&#1086;&#1076;&#1099;" TargetMode="External"/><Relationship Id="rId6" Type="http://schemas.openxmlformats.org/officeDocument/2006/relationships/hyperlink" Target="http://ru.wikipedia.org/wiki/&#1040;&#1083;&#1082;&#1077;&#1085;&#1099;" TargetMode="External"/><Relationship Id="rId7" Type="http://schemas.openxmlformats.org/officeDocument/2006/relationships/hyperlink" Target="http://ru.wikipedia.org/wiki/&#1040;&#1083;&#1082;&#1080;&#1085;&#1099;" TargetMode="External"/><Relationship Id="rId8" Type="http://schemas.openxmlformats.org/officeDocument/2006/relationships/hyperlink" Target="http://ru.wikipedia.org/wiki/&#1040;&#1083;&#1082;&#1072;&#1076;&#1080;&#1077;&#1085;&#1099;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/index.php?title=&#1062;&#1080;&#1082;&#1083;&#1080;&#1095;&#1077;&#1089;&#1082;&#1080;&#1077;_&#1091;&#1075;&#1083;&#1077;&#1074;&#1086;&#1076;&#1086;&#1088;&#1086;&#1076;&#1099;&amp;action=edit&amp;redlink=1" TargetMode="External"/><Relationship Id="rId3" Type="http://schemas.openxmlformats.org/officeDocument/2006/relationships/hyperlink" Target="http://ru.wikipedia.org/w/index.php?title=&#1062;&#1080;&#1082;&#1083;&#1080;&#1095;&#1077;&#1089;&#1082;&#1080;&#1077;_&#1091;&#1075;&#1083;&#1077;&#1074;&#1086;&#1076;&#1086;&#1088;&#1086;&#1076;&#1099;&amp;action=edit&amp;redlink=1" TargetMode="External"/><Relationship Id="rId4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5" Type="http://schemas.openxmlformats.org/officeDocument/2006/relationships/hyperlink" Target="http://ru.wikipedia.org/wiki/&#1050;&#1072;&#1088;&#1073;&#1086;&#1094;&#1080;&#1082;&#1083;&#1080;&#1095;&#1077;&#1089;&#1082;&#1080;&#1077;_&#1089;&#1086;&#1077;&#1076;&#1080;&#1085;&#1077;&#1085;&#1080;&#1103;" TargetMode="External"/><Relationship Id="rId6" Type="http://schemas.openxmlformats.org/officeDocument/2006/relationships/hyperlink" Target="http://ru.wikipedia.org/wiki/&#1040;&#1083;&#1080;&#1094;&#1080;&#1082;&#1083;&#1080;&#1095;&#1077;&#1089;&#1082;&#1080;&#1077;_&#1089;&#1086;&#1077;&#1076;&#1080;&#1085;&#1077;&#1085;&#1080;&#1103;" TargetMode="External"/><Relationship Id="rId7" Type="http://schemas.openxmlformats.org/officeDocument/2006/relationships/hyperlink" Target="http://ru.wikipedia.org/wiki/&#1040;&#1088;&#1077;&#1085;&#1099;" TargetMode="External"/><Relationship Id="rId8" Type="http://schemas.openxmlformats.org/officeDocument/2006/relationships/hyperlink" Target="http://ru.wikipedia.org/wiki/&#1043;&#1077;&#1090;&#1077;&#1088;&#1086;&#1094;&#1080;&#1082;&#1083;&#1080;&#1095;&#1077;&#1089;&#1082;&#1080;&#1077;_&#1089;&#1086;&#1077;&#1076;&#1080;&#1085;&#1077;&#1085;&#1080;&#1103;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7;&#1080;&#1088;&#1090;&#1099;" TargetMode="External"/><Relationship Id="rId3" Type="http://schemas.openxmlformats.org/officeDocument/2006/relationships/hyperlink" Target="http://ru.wikipedia.org/wiki/&#1060;&#1077;&#1085;&#1086;&#1083;&#1099;" TargetMode="External"/><Relationship Id="rId4" Type="http://schemas.openxmlformats.org/officeDocument/2006/relationships/hyperlink" Target="http://ru.wikipedia.org/wiki/&#1040;&#1083;&#1100;&#1076;&#1077;&#1075;&#1080;&#1076;&#1099;" TargetMode="External"/><Relationship Id="rId5" Type="http://schemas.openxmlformats.org/officeDocument/2006/relationships/hyperlink" Target="http://ru.wikipedia.org/wiki/&#1050;&#1077;&#1090;&#1086;&#1085;&#1099;" TargetMode="External"/><Relationship Id="rId6" Type="http://schemas.openxmlformats.org/officeDocument/2006/relationships/hyperlink" Target="http://ru.wikipedia.org/wiki/&#1050;&#1072;&#1088;&#1073;&#1086;&#1085;&#1086;&#1074;&#1099;&#1077;_&#1082;&#1080;&#1089;&#1083;&#1086;&#1090;&#1099;" TargetMode="External"/><Relationship Id="rId7" Type="http://schemas.openxmlformats.org/officeDocument/2006/relationships/hyperlink" Target="http://ru.wikipedia.org/wiki/&#1057;&#1083;&#1086;&#1078;&#1085;&#1099;&#1077;_&#1101;&#1092;&#1080;&#1088;&#1099;" TargetMode="External"/><Relationship Id="rId8" Type="http://schemas.openxmlformats.org/officeDocument/2006/relationships/hyperlink" Target="http://ru.wikipedia.org/wiki/&#1046;&#1080;&#1088;&#1099;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99;" TargetMode="External"/><Relationship Id="rId3" Type="http://schemas.openxmlformats.org/officeDocument/2006/relationships/hyperlink" Target="http://ru.wikipedia.org/wiki/&#1052;&#1086;&#1085;&#1086;&#1089;&#1072;&#1093;&#1072;&#1088;&#1080;&#1076;&#1099;" TargetMode="External"/><Relationship Id="rId4" Type="http://schemas.openxmlformats.org/officeDocument/2006/relationships/hyperlink" Target="http://ru.wikipedia.org/wiki/&#1054;&#1083;&#1080;&#1075;&#1086;&#1089;&#1072;&#1093;&#1072;&#1088;&#1080;&#1076;&#1099;" TargetMode="External"/><Relationship Id="rId5" Type="http://schemas.openxmlformats.org/officeDocument/2006/relationships/hyperlink" Target="http://ru.wikipedia.org/wiki/&#1055;&#1086;&#1083;&#1080;&#1089;&#1072;&#1093;&#1072;&#1088;&#1080;&#1076;&#1099;" TargetMode="External"/><Relationship Id="rId6" Type="http://schemas.openxmlformats.org/officeDocument/2006/relationships/hyperlink" Target="http://ru.wikipedia.org/wiki/&#1052;&#1091;&#1082;&#1086;&#1087;&#1086;&#1083;&#1080;&#1089;&#1072;&#1093;&#1072;&#1088;&#1080;&#1076;&#1099;" TargetMode="External"/><Relationship Id="rId7" Type="http://schemas.openxmlformats.org/officeDocument/2006/relationships/hyperlink" Target="http://ru.wikipedia.org/wiki/&#1040;&#1084;&#1080;&#1085;&#1099;" TargetMode="External"/><Relationship Id="rId8" Type="http://schemas.openxmlformats.org/officeDocument/2006/relationships/hyperlink" Target="http://ru.wikipedia.org/wiki/&#1040;&#1084;&#1080;&#1085;&#1086;&#1082;&#1080;&#1089;&#1083;&#1086;&#1090;&#1099;" TargetMode="External"/><Relationship Id="rId9" Type="http://schemas.openxmlformats.org/officeDocument/2006/relationships/hyperlink" Target="http://ru.wikipedia.org/wiki/&#1041;&#1077;&#1083;&#1082;&#1080;" TargetMode="External"/><Relationship Id="rId10" Type="http://schemas.openxmlformats.org/officeDocument/2006/relationships/hyperlink" Target="http://ru.wikipedia.org/wiki/&#1053;&#1091;&#1082;&#1083;&#1077;&#1080;&#1085;&#1086;&#1074;&#1099;&#1077;_&#1082;&#1080;&#1089;&#1083;&#1086;&#1090;&#1099;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40;&#1083;&#1082;&#1072;&#1085;&#1099;" TargetMode="External"/><Relationship Id="rId4" Type="http://schemas.openxmlformats.org/officeDocument/2006/relationships/hyperlink" Target="http://ru.wikipedia.org/wiki/&#1040;&#1083;&#1082;&#1077;&#1085;&#1099;" TargetMode="External"/><Relationship Id="rId5" Type="http://schemas.openxmlformats.org/officeDocument/2006/relationships/hyperlink" Target="http://ru.wikipedia.org/wiki/&#1044;&#1080;&#1077;&#1085;&#1099;" TargetMode="External"/><Relationship Id="rId6" Type="http://schemas.openxmlformats.org/officeDocument/2006/relationships/hyperlink" Target="http://ru.wikipedia.org/wiki/&#1040;&#1083;&#1082;&#1072;&#1076;&#1080;&#1077;&#1085;&#1099;" TargetMode="External"/><Relationship Id="rId7" Type="http://schemas.openxmlformats.org/officeDocument/2006/relationships/hyperlink" Target="http://ru.wikipedia.org/wiki/&#1040;&#1083;&#1082;&#1080;&#1085;&#1099;" TargetMode="External"/><Relationship Id="rId8" Type="http://schemas.openxmlformats.org/officeDocument/2006/relationships/hyperlink" Target="http://ru.wikipedia.org/wiki/&#1043;&#1072;&#1083;&#1086;&#1075;&#1077;&#1085;&#1091;&#1075;&#1083;&#1077;&#1074;&#1086;&#1076;&#1086;&#1088;&#1086;&#1076;&#1099;" TargetMode="External"/><Relationship Id="rId9" Type="http://schemas.openxmlformats.org/officeDocument/2006/relationships/hyperlink" Target="http://ru.wikipedia.org/wiki/&#1057;&#1087;&#1080;&#1088;&#1090;&#1099;" TargetMode="External"/><Relationship Id="rId10" Type="http://schemas.openxmlformats.org/officeDocument/2006/relationships/hyperlink" Target="http://ru.wikipedia.org/wiki/&#1052;&#1077;&#1088;&#1082;&#1072;&#1087;&#1090;&#1072;&#1085;&#1099;" TargetMode="External"/><Relationship Id="rId11" Type="http://schemas.openxmlformats.org/officeDocument/2006/relationships/hyperlink" Target="http://ru.wikipedia.org/wiki/&#1055;&#1088;&#1086;&#1089;&#1090;&#1099;&#1077;_&#1101;&#1092;&#1080;&#1088;&#1099;" TargetMode="External"/><Relationship Id="rId12" Type="http://schemas.openxmlformats.org/officeDocument/2006/relationships/hyperlink" Target="http://ru.wikipedia.org/wiki/&#1040;&#1083;&#1100;&#1076;&#1077;&#1075;&#1080;&#1076;&#1099;" TargetMode="External"/><Relationship Id="rId13" Type="http://schemas.openxmlformats.org/officeDocument/2006/relationships/hyperlink" Target="http://ru.wikipedia.org/wiki/&#1050;&#1077;&#1090;&#1086;&#1085;&#1099;" TargetMode="External"/><Relationship Id="rId14" Type="http://schemas.openxmlformats.org/officeDocument/2006/relationships/hyperlink" Target="http://ru.wikipedia.org/wiki/&#1050;&#1072;&#1088;&#1073;&#1086;&#1085;&#1086;&#1074;&#1099;&#1077;_&#1082;&#1080;&#1089;&#1083;&#1086;&#1090;&#1099;" TargetMode="External"/><Relationship Id="rId15" Type="http://schemas.openxmlformats.org/officeDocument/2006/relationships/hyperlink" Target="http://ru.wikipedia.org/wiki/&#1057;&#1083;&#1086;&#1078;&#1085;&#1099;&#1077;_&#1101;&#1092;&#1080;&#1088;&#1099;" TargetMode="External"/><Relationship Id="rId16" Type="http://schemas.openxmlformats.org/officeDocument/2006/relationships/hyperlink" Target="http://ru.wikipedia.org/wiki/&#1059;&#1075;&#1083;&#1077;&#1074;&#1086;&#1076;&#1099;" TargetMode="External"/><Relationship Id="rId17" Type="http://schemas.openxmlformats.org/officeDocument/2006/relationships/hyperlink" Target="http://ru.wikipedia.org/wiki/&#1053;&#1072;&#1092;&#1090;&#1077;&#1085;&#1099;" TargetMode="External"/><Relationship Id="rId18" Type="http://schemas.openxmlformats.org/officeDocument/2006/relationships/hyperlink" Target="http://ru.wikipedia.org/wiki/&#1040;&#1084;&#1080;&#1076;&#1099;" TargetMode="External"/><Relationship Id="rId19" Type="http://schemas.openxmlformats.org/officeDocument/2006/relationships/hyperlink" Target="http://ru.wikipedia.org/wiki/&#1040;&#1084;&#1080;&#1085;&#1099;" TargetMode="External"/><Relationship Id="rId20" Type="http://schemas.openxmlformats.org/officeDocument/2006/relationships/hyperlink" Target="http://ru.wikipedia.org/wiki/&#1051;&#1080;&#1087;&#1080;&#1076;&#1099;" TargetMode="External"/><Relationship Id="rId21" Type="http://schemas.openxmlformats.org/officeDocument/2006/relationships/hyperlink" Target="http://ru.wikipedia.org/wiki/&#1053;&#1080;&#1090;&#1088;&#1080;&#1083;&#1099;" TargetMode="External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7;&#1085;&#1079;&#1086;&#1083;" TargetMode="External"/><Relationship Id="rId3" Type="http://schemas.openxmlformats.org/officeDocument/2006/relationships/hyperlink" Target="http://ru.wikipedia.org/wiki/&#1058;&#1086;&#1083;&#1091;&#1086;&#1083;" TargetMode="External"/><Relationship Id="rId4" Type="http://schemas.openxmlformats.org/officeDocument/2006/relationships/hyperlink" Target="http://ru.wikipedia.org/wiki/&#1050;&#1089;&#1080;&#1083;&#1086;&#1083;" TargetMode="External"/><Relationship Id="rId5" Type="http://schemas.openxmlformats.org/officeDocument/2006/relationships/hyperlink" Target="http://ru.wikipedia.org/wiki/&#1040;&#1085;&#1080;&#1083;&#1080;&#1085;" TargetMode="External"/><Relationship Id="rId6" Type="http://schemas.openxmlformats.org/officeDocument/2006/relationships/hyperlink" Target="http://ru.wikipedia.org/wiki/&#1060;&#1077;&#1085;&#1086;&#1083;" TargetMode="External"/><Relationship Id="rId7" Type="http://schemas.openxmlformats.org/officeDocument/2006/relationships/hyperlink" Target="http://ru.wikipedia.org/wiki/&#1040;&#1094;&#1077;&#1090;&#1086;&#1092;&#1077;&#1085;&#1086;&#1085;" TargetMode="External"/><Relationship Id="rId8" Type="http://schemas.openxmlformats.org/officeDocument/2006/relationships/hyperlink" Target="http://ru.wikipedia.org/w/index.php?title=&#1041;&#1077;&#1085;&#1079;&#1086;&#1085;&#1080;&#1090;&#1088;&#1080;&#1083;&amp;action=edit&amp;redlink=1" TargetMode="External"/><Relationship Id="rId9" Type="http://schemas.openxmlformats.org/officeDocument/2006/relationships/hyperlink" Target="http://ru.wikipedia.org/w/index.php?title=&#1043;&#1072;&#1083;&#1086;&#1075;&#1077;&#1085;&#1072;&#1088;&#1077;&#1085;&#1099;&amp;action=edit&amp;redlink=1" TargetMode="External"/><Relationship Id="rId10" Type="http://schemas.openxmlformats.org/officeDocument/2006/relationships/hyperlink" Target="http://ru.wikipedia.org/wiki/&#1053;&#1072;&#1092;&#1090;&#1072;&#1083;&#1080;&#1085;" TargetMode="External"/><Relationship Id="rId11" Type="http://schemas.openxmlformats.org/officeDocument/2006/relationships/hyperlink" Target="http://ru.wikipedia.org/wiki/&#1040;&#1085;&#1090;&#1088;&#1072;&#1094;&#1077;&#1085;" TargetMode="External"/><Relationship Id="rId12" Type="http://schemas.openxmlformats.org/officeDocument/2006/relationships/hyperlink" Target="http://ru.wikipedia.org/wiki/&#1060;&#1077;&#1085;&#1072;&#1085;&#1090;&#1088;&#1077;&#1085;" TargetMode="External"/><Relationship Id="rId13" Type="http://schemas.openxmlformats.org/officeDocument/2006/relationships/hyperlink" Target="http://ru.wikipedia.org/wiki/&#1041;&#1077;&#1085;&#1079;&#1087;&#1080;&#1088;&#1077;&#1085;" TargetMode="External"/><Relationship Id="rId14" Type="http://schemas.openxmlformats.org/officeDocument/2006/relationships/hyperlink" Target="http://ru.wikipedia.org/wiki/&#1050;&#1086;&#1088;&#1086;&#1085;&#1077;&#1085;" TargetMode="External"/><Relationship Id="rId15" Type="http://schemas.openxmlformats.org/officeDocument/2006/relationships/hyperlink" Target="http://ru.wikipedia.org/wiki/&#1040;&#1079;&#1091;&#1083;&#1077;&#1085;" TargetMode="External"/><Relationship Id="rId16" Type="http://schemas.openxmlformats.org/officeDocument/2006/relationships/hyperlink" Target="http://ru.wikipedia.org/wiki/&#1041;&#1080;&#1092;&#1077;&#1085;&#1080;&#1083;" TargetMode="External"/><Relationship Id="rId17" Type="http://schemas.openxmlformats.org/officeDocument/2006/relationships/hyperlink" Target="http://ru.wikipedia.org/wiki/&#1048;&#1086;&#1085;&#1086;&#1083;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3;&#1077;&#1090;&#1077;&#1088;&#1086;&#1072;&#1090;&#1086;&#1084;" TargetMode="External"/><Relationship Id="rId3" Type="http://schemas.openxmlformats.org/officeDocument/2006/relationships/hyperlink" Target="http://ru.wikipedia.org/wiki/&#1055;&#1080;&#1088;&#1088;&#1086;&#1083;" TargetMode="External"/><Relationship Id="rId4" Type="http://schemas.openxmlformats.org/officeDocument/2006/relationships/hyperlink" Target="http://ru.wikipedia.org/wiki/&#1058;&#1080;&#1086;&#1092;&#1077;&#1085;" TargetMode="External"/><Relationship Id="rId5" Type="http://schemas.openxmlformats.org/officeDocument/2006/relationships/hyperlink" Target="http://ru.wikipedia.org/wiki/&#1060;&#1091;&#1088;&#1072;&#1085;" TargetMode="External"/><Relationship Id="rId6" Type="http://schemas.openxmlformats.org/officeDocument/2006/relationships/hyperlink" Target="http://ru.wikipedia.org/wiki/&#1055;&#1080;&#1088;&#1080;&#1076;&#1080;&#1085;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2;&#1099;&#1089;&#1086;&#1082;&#1086;&#1084;&#1086;&#1083;&#1077;&#1082;&#1091;&#1083;&#1103;&#1088;&#1085;&#1099;&#1077;_&#1089;&#1086;&#1077;&#1076;&#1080;&#1085;&#1077;&#1085;&#1080;&#1103;" TargetMode="External"/><Relationship Id="rId3" Type="http://schemas.openxmlformats.org/officeDocument/2006/relationships/hyperlink" Target="http://ru.wikipedia.org/wiki/&#1043;&#1086;&#1084;&#1086;&#1087;&#1086;&#1083;&#1080;&#1084;&#1077;&#1088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83;&#1080;&#1101;&#1090;&#1080;&#1083;&#1077;&#1085;" TargetMode="External"/><Relationship Id="rId3" Type="http://schemas.openxmlformats.org/officeDocument/2006/relationships/hyperlink" Target="http://ru.wikipedia.org/wiki/&#1055;&#1086;&#1083;&#1080;&#1087;&#1088;&#1086;&#1087;&#1080;&#1083;&#1077;&#1085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72314"/>
                </a:solidFill>
                <a:latin typeface="Arial"/>
              </a:rPr>
              <a:t>Виды </a:t>
            </a: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органических </a:t>
            </a:r>
            <a:r>
              <a:rPr b="1" i="1" lang="ru-RU" sz="5400" spc="-1" strike="noStrike">
                <a:solidFill>
                  <a:srgbClr val="572314"/>
                </a:solidFill>
                <a:latin typeface="Arial"/>
              </a:rPr>
              <a:t>соединений</a:t>
            </a: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5640" y="5357880"/>
            <a:ext cx="409428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240D-B0CE-4295-ACF3-99DE501CFE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9280" y="-360"/>
            <a:ext cx="8394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рганическая номенклатура — это система классификации и наименований органических веществ. В настоящее время распространена номенклатура ИЮПА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Классификация органических соединений построена на важном принципе, согласно которому физические и химические свойства органического соединения в первом приближении определяются двумя основными критериями — строением углеродного скелета соединения и его функциональными групп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1AB-7467-411A-A315-A6203A6E26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зависимости от природы углеродного скелета органические соединения можно разделить на ациклические и циклические. Среди ациклических соединений различают предельные инепредельные. Циклические соединения разделяются на карбоциклические (алициклические и ароматические)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гетероциклическ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2FC-D60D-4344-883F-36878ABF7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ческие соединения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ор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Ацикл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Предельные углеводороды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 (алкан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Непредельные углеводоро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ке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лки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Алкадиены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 (диеновые углеводороды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941-4A5B-4402-824C-D20591922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Циклические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углеводороды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Карбоциклические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ицикл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роматические соедин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Гетероцикл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7F1-8F9D-4D96-A960-215C720EAA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ругие классы органических соединений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Спирт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Фено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Альдегиды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Кето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Карбоновые 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Сложные эфи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CAC-3B45-4EC7-A975-12560BCDCC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Моно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Олиго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Поли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Мукополисахарид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м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Амино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Нуклеиновые кис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B75-7450-47DB-960C-F30DE6AF7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4000" y="476280"/>
            <a:ext cx="825012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лифат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лифатические соединения — органические вещества, не содержащие в структуре ароматических сист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Углеводор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Алка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Алк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Ди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ли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Алкади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лки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Галогенуглеводор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Спир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Меркапта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Простые эфир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/>
              </a:rPr>
              <a:t>Альдег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Кето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4"/>
              </a:rPr>
              <a:t>Карбоновые кисло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5"/>
              </a:rPr>
              <a:t>Сложные эфир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6"/>
              </a:rPr>
              <a:t>Углево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ли сахара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7"/>
              </a:rPr>
              <a:t>Нафт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8"/>
              </a:rPr>
              <a:t>Ам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9"/>
              </a:rPr>
              <a:t>Ами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0"/>
              </a:rPr>
              <a:t>Липид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1"/>
              </a:rPr>
              <a:t>Нитри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787-F51C-404C-931D-C62E773E19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ромат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оматические соединения, или арены, — органические вещества, в структуру которых входит одна (или более) ароматическая циклическ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Бенз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Толу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Ксил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Анили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Фен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/>
              </a:rPr>
              <a:t>Ацетофено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/>
              </a:rPr>
              <a:t>Бензонитри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/>
              </a:rPr>
              <a:t>Галогенарен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/>
              </a:rPr>
              <a:t>Нафтали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/>
              </a:rPr>
              <a:t>Антрац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/>
              </a:rPr>
              <a:t>Фенантр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3"/>
              </a:rPr>
              <a:t>Бензпир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4"/>
              </a:rPr>
              <a:t>Корон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5"/>
              </a:rPr>
              <a:t>Азул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6"/>
              </a:rPr>
              <a:t>Бифени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7"/>
              </a:rPr>
              <a:t>Ион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666-D945-4BBB-B512-D6DDC8853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етероциклические соеди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тероциклические соединения — вещества, в молекулярной структуре которых присутствует хотя бы один цикл с одним (или несколькими)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гетероатом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Пирро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/>
              </a:rPr>
              <a:t>Тиофе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/>
              </a:rPr>
              <a:t>Фура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/>
              </a:rPr>
              <a:t>Пириди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59F-D167-4281-9CFB-ED5B42F06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-360"/>
            <a:ext cx="875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ме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имеры представляют собой особый вид веществ, также известный как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высокомолекулярные 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 их структуру обычно входят многочисленные сегменты (соединения) меньшего размера. Эти сегменты могут быть идентичны, и тогда речь идёт о 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гомополиме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D1C-1E0C-45AC-9CFC-89C5E4F7FF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Органические вещества классифицируют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 типу углеродной це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 функциональной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22223"/>
                </a:solidFill>
                <a:latin typeface="Corbel"/>
              </a:rPr>
              <a:t>Функциональной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называется группа атомов, определяющая наиболее характерные свойства  вещества и его принадлежность к определенному классу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9A7-65F0-4B26-9BC1-99F3ACB081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лимеры относятся к макромолекулам — классу веществ, состоящих из молекул очень большого размера. Полимеры могут быть органическими (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полиэтиле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полипропиле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, плексиглас и т. д.) или неорганическими (силикон); синтетическими (поливинилхлорид) или природными (целлюлоза, крахмал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D8B-73A7-49F9-B70D-EBD3E6D62E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Классификация по типу углеродной цеп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Классиф. орг..jpg"/>
          <p:cNvPicPr/>
          <p:nvPr/>
        </p:nvPicPr>
        <p:blipFill>
          <a:blip r:embed="rId2"/>
          <a:stretch/>
        </p:blipFill>
        <p:spPr>
          <a:xfrm>
            <a:off x="1071720" y="1285920"/>
            <a:ext cx="792936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175-26D6-4DCC-8735-06D445C38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Классификация по функциональной групп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6" descr="pic5_2_1.gif"/>
          <p:cNvPicPr/>
          <p:nvPr/>
        </p:nvPicPr>
        <p:blipFill>
          <a:blip r:embed="rId2"/>
          <a:srcRect l="0" t="6171" r="0" b="8712"/>
          <a:stretch/>
        </p:blipFill>
        <p:spPr>
          <a:xfrm>
            <a:off x="1285920" y="1285920"/>
            <a:ext cx="7572240" cy="54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833-B2ED-4E6A-9DEE-DB40FBC5CB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рганические 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рганические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 класс химических соединений, в состав которых входит углерод (за исключением карбидов, угольной кислоты, карбонатов,оксидов углерода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цианид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808-781C-48B1-872D-95F272B45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181440" y="-360"/>
            <a:ext cx="91155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ые классы органических соединений биологического происхождения — белки, липиды, углеводы, нуклеиновые кислоты — содержат, помимо углерода, преимущественноводород, азот, кислород, серу и фосфор. Именно поэтому «классические» органические соединения содержат прежде всего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одоро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слород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азо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и 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р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— несмотря на то, чтоэлементами, составляющими органические соединения, помимо углерода могут быть практически любые элемен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CCA-E615-4081-858D-F9890DC3D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оединения углерода с другими элементами составляют особый класс органических соединений — элементоорганические соединения. Металлоорганические соединения содержат связь металл-углерод и составляют обширный подкласс элементоорганических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F40-452D-4B49-85C0-1DC735104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Характерные свойств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9280" y="692280"/>
            <a:ext cx="875520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уществует несколько важных свойств, которые выделяют органические соединения в отдельный класс химических соедин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Различная топология образования связей между атомами, образующими органические соединения (прежде всего, атомами углерода), приводит к появлению изомеров — соединений, имеющих один и тот же состав и молекулярную массу, но обладающих различными физико-химическими свойствами. Данное явление носит название изомер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1FD-27EA-4612-9EA8-DB6F6919F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11280" y="260280"/>
            <a:ext cx="83232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Явление гомологии — существование рядов органических соединений, в которых формула любых двух соседей ряда отличается на одну и ту же группу — гомологическую разницу 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Целый ряд физико-химических свойств в первом приближении изменяется симбатно по ходу гомологического ряда. Это важное свойство используется в материаловедении при поиске веществ с заранее заданными свойств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482-EE9B-4F73-B204-72F5C191F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3:15:10Z</dcterms:created>
  <dc:creator>Admin</dc:creator>
  <dc:description/>
  <dc:language>en-US</dc:language>
  <cp:lastModifiedBy>Student</cp:lastModifiedBy>
  <dcterms:modified xsi:type="dcterms:W3CDTF">2013-05-03T10:03:44Z</dcterms:modified>
  <cp:revision>25</cp:revision>
  <dc:subject/>
  <dc:title>Классификация органических веществ.</dc:title>
</cp:coreProperties>
</file>